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6F3A-0868-46EC-9BBD-EA6306FF1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FD70-6F8B-4FF3-BB79-D32E40ADA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1973-004F-4F1B-B33D-E460F96C2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7E85-1765-473F-A4F6-1C240F7A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A26C-4AFC-42EC-8D90-BFC44199D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29AD-1102-4AC5-8E12-E866A16E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C315-89FC-4CE9-AA3C-25985770D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C799-FC50-48DE-986F-2E9E922D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D6C0-9A10-4D1A-8FA7-0F30E8D0B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453F-66E2-45E7-8EE0-D78A8080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9D81-0361-4F62-971E-B04B72A0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EB0-85AB-43A7-BF90-0F98EC0C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DAE4-ACCD-4F1F-8FF6-FC93ECE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BF39-442C-4C78-83E9-DC93F28DE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A79C-E441-48DC-8AB9-6E6CCE15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3398-B9F0-47D6-A1D6-83BA256F1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CC577-12F4-4143-841F-CFF32D43B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F9D-E83D-439A-8186-4733E30A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F0E-26D9-4A03-BB86-6C635FF0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4A6A-8D5F-40D0-9AD9-FB859D1FC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BC51-61C3-4155-BEBE-17CFDB3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E9DB-D67A-406A-AEE6-223B72C3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254-CFB5-4465-B214-36C0D87F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AA6-B571-4A6F-9233-AEA70F9BC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33A9-CC6B-4A7C-8B0C-26A173CD3A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7730-633D-4253-9714-5BDB5ABCF47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America’s New Governmen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rom 13 British Coloni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e 13 United States of Americ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1776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claration of Independence was written by Thomas Jefferson with the aid and consent of the Continental Congres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Included in this Congress were Benjamin Franklin and John Adam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Declaration of Independence would declare the official separation from the British empire and announce the existence of the newly founded United States of America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7" descr="USA_declaration_of_independence"/>
          <p:cNvPicPr/>
          <p:nvPr/>
        </p:nvPicPr>
        <p:blipFill>
          <a:blip r:embed="rId1"/>
          <a:stretch/>
        </p:blipFill>
        <p:spPr>
          <a:xfrm>
            <a:off x="5057640" y="1828800"/>
            <a:ext cx="3257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le written in a room with no wo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Declaration of Independence"/>
          <p:cNvPicPr/>
          <p:nvPr/>
        </p:nvPicPr>
        <p:blipFill>
          <a:blip r:embed="rId1"/>
          <a:stretch/>
        </p:blipFill>
        <p:spPr>
          <a:xfrm>
            <a:off x="3886200" y="2057400"/>
            <a:ext cx="487692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declare that “all men are created equal…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ile written in a room with no women…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By men who owned slave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6" descr="untitled"/>
          <p:cNvPicPr/>
          <p:nvPr/>
        </p:nvPicPr>
        <p:blipFill>
          <a:blip r:embed="rId1"/>
          <a:stretch/>
        </p:blipFill>
        <p:spPr>
          <a:xfrm>
            <a:off x="3886200" y="1905120"/>
            <a:ext cx="4876920" cy="37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200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ould also declare that man had natural rights which should not be violated by other me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Arial"/>
              </a:rPr>
              <a:t>Life, Liberty, and the Pursuit of Happiness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were these right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8" descr="USA_declaration_of_independence"/>
          <p:cNvPicPr/>
          <p:nvPr/>
        </p:nvPicPr>
        <p:blipFill>
          <a:blip r:embed="rId1"/>
          <a:stretch/>
        </p:blipFill>
        <p:spPr>
          <a:xfrm>
            <a:off x="5057640" y="1828800"/>
            <a:ext cx="32576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 The Declaration of Independence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omas Jefferson made sure to include the right of the people to overthrow and replace a government if it does not meet the needs of the peopl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e founders of this country believed that government should serve the people, not the other way aroun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Life, liberty, and the pursuit of happiness should be protected by the government and never violated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9:55:41Z</dcterms:created>
  <dc:creator>NYCDOE</dc:creator>
  <dc:description/>
  <dc:language>en-US</dc:language>
  <cp:lastModifiedBy>NYCDOE</cp:lastModifiedBy>
  <dcterms:modified xsi:type="dcterms:W3CDTF">2011-03-30T02:43:46Z</dcterms:modified>
  <cp:revision>5</cp:revision>
  <dc:subject/>
  <dc:title>America’s New Government</dc:title>
</cp:coreProperties>
</file>